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960-95F9-4744-8B75-981D8E67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D23-D226-42D9-BC4C-CA7E827C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894C-DF82-420A-8C2E-B6581ABE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4AD-ECCE-49F8-99C4-B4937FA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34F6-4711-457E-A564-774FD3CF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B68A-D4E2-4189-8770-C3E06FD6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75A-86F8-49B4-917A-4173477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C18-2BCE-4115-AF77-835DE694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D16-FED3-4764-ADDD-3206A2B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7A63-2936-4EA1-9A7C-A864B144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D06-2E3D-4D90-B08F-97D4B60B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D7E-6F3E-49A0-94E3-726729E7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685800" y="6324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68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2e2d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2e2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0817e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50000">
                  <a:srgbClr val="9ce157"/>
                </a:gs>
                <a:gs pos="100000">
                  <a:srgbClr val="002e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2e2d"/>
                </a:gs>
                <a:gs pos="100000">
                  <a:srgbClr val="0052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5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7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69D-C018-4EA0-A5B9-E5C0AB0F77CC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17e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CPDAS GPS &amp; GSM Solution for 7188XA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2 functions for getting NMEA 0183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can get whole sentence or specific field data(UTC time, latitude…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GPS%20Application-2" descr=""/>
          <p:cNvPicPr/>
          <p:nvPr/>
        </p:nvPicPr>
        <p:blipFill>
          <a:blip r:embed="rId4"/>
          <a:stretch/>
        </p:blipFill>
        <p:spPr>
          <a:xfrm>
            <a:off x="6324480" y="1828800"/>
            <a:ext cx="23846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SM for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functions for SMS and dialing to remote host for data link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lib &amp; dem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GSM_APP2" descr=""/>
          <p:cNvPicPr/>
          <p:nvPr/>
        </p:nvPicPr>
        <p:blipFill>
          <a:blip r:embed="rId3"/>
          <a:stretch/>
        </p:blipFill>
        <p:spPr>
          <a:xfrm>
            <a:off x="4724280" y="2417760"/>
            <a:ext cx="41148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848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GSM%20Application-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70572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2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804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GPS &amp; GSM With 7188X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 demo program for using GPS &amp; GSM with 7188X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gram demonstrate how to adjust the RTC of 7188XA with the GPS UTC argument and use 7-segment LED as simple HMI fun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9T05:46:01Z</dcterms:created>
  <dc:creator>Tony</dc:creator>
  <dc:description/>
  <dc:language>en-US</dc:language>
  <cp:lastModifiedBy>Tony</cp:lastModifiedBy>
  <dcterms:modified xsi:type="dcterms:W3CDTF">2003-02-11T01:59:55Z</dcterms:modified>
  <cp:revision>8</cp:revision>
  <dc:subject/>
  <dc:title>ICPDAS GPS &amp; GSM Solution for 7188XA</dc:title>
</cp:coreProperties>
</file>